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E73-459A-47BF-A28D-B15B7B58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CE6E-B4E4-4B35-90A3-5C2B0310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B50-C793-469A-90C6-CFFF0A1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9C8-57C4-4380-8A38-B6BF181C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AAC-EE1E-41AE-BC1E-7AE3725D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B92-5E78-4D16-8706-7926D469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29-1AB7-4559-8C93-CFA383C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F6A-0296-42AD-ADA2-FA61B7EA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F73-C354-4B3C-B134-AEFD35B8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035-23F1-41A7-83BA-37F7AE6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C83-28AD-4E40-A1F8-B95A9371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782-50B0-4753-87BB-156AAF0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BFB-6882-49D2-9BA3-B0C26501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307-959B-40F5-93FC-652CE51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E6A-A095-44F5-9024-F2D3B6A20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mal 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mal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.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amal Yo vivo en New York. .Tengo quince años. Tengo tres hermano. 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2Z</dcterms:modified>
  <cp:revision>102</cp:revision>
  <dc:subject/>
  <dc:title>Profile</dc:title>
</cp:coreProperties>
</file>